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2.jpeg" ContentType="image/jpeg"/>
  <Override PartName="/ppt/media/image3.png" ContentType="image/png"/>
  <Override PartName="/ppt/media/jeop.wav" ContentType="audio/x-wav"/>
  <Override PartName="/ppt/media/Jeopardy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6DD-0B88-495A-8A85-B2B93356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2B4-6DCE-44AC-8A69-9D1951E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C23-8FC8-4C7E-A5B5-2F790C04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588-B1DE-49B1-A086-1CF0CD9B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1C5-EA21-4784-9914-46348606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1306-7086-426A-9499-3242DA3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5DC6-46C5-4A67-9528-20966DF3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EA34-6461-4556-8C23-9DB8A39C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22B-BBC4-4CC7-A6CF-0AD0337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14BA-B6AE-4955-9498-4155E0CC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A3CF-11B7-4963-8616-4D934D3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0D6-19DA-4AC5-A0FD-B48147DB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F59D-8906-44F3-BFA2-C0A4047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24B-F022-41EA-89EA-0FFC2D4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07DC-4554-4E04-9DB9-1836114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E89-1066-480A-9C60-25E210D1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0438-45A4-4968-8149-EE85C40C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401-0BA9-49A7-8561-2E75DAD3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6E1-9A05-4986-823E-F27FCC30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CDE-F484-414A-91C0-F3334680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852-63BA-4F3C-85DD-2D6071E6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4C8-47C3-4B11-A56C-34E8676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D59-F664-455D-8D88-54FA4F24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FA4-8BBA-4988-8EE6-8410DA6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EA2-F712-4A36-9B7D-F7CF7B8D1B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8F26-1ECE-4321-9EBF-58DEA4930A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15.xml"/><Relationship Id="rId12" Type="http://schemas.openxmlformats.org/officeDocument/2006/relationships/slide" Target="slide25.xml"/><Relationship Id="rId13" Type="http://schemas.openxmlformats.org/officeDocument/2006/relationships/slide" Target="slide35.xml"/><Relationship Id="rId14" Type="http://schemas.openxmlformats.org/officeDocument/2006/relationships/slide" Target="slide17.xml"/><Relationship Id="rId15" Type="http://schemas.openxmlformats.org/officeDocument/2006/relationships/slide" Target="slide27.xml"/><Relationship Id="rId16" Type="http://schemas.openxmlformats.org/officeDocument/2006/relationships/slide" Target="slide37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21.xml"/><Relationship Id="rId21" Type="http://schemas.openxmlformats.org/officeDocument/2006/relationships/slide" Target="slide31.xml"/><Relationship Id="rId22" Type="http://schemas.openxmlformats.org/officeDocument/2006/relationships/slide" Target="slide41.xml"/><Relationship Id="rId23" Type="http://schemas.openxmlformats.org/officeDocument/2006/relationships/slide" Target="slide43.xml"/><Relationship Id="rId24" Type="http://schemas.openxmlformats.org/officeDocument/2006/relationships/slide" Target="slide2.xml"/><Relationship Id="rId25" Type="http://schemas.openxmlformats.org/officeDocument/2006/relationships/image" Target="../media/image2.jpeg"/><Relationship Id="rId26" Type="http://schemas.openxmlformats.org/officeDocument/2006/relationships/audio" Target="../media/jeop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15.xml"/><Relationship Id="rId12" Type="http://schemas.openxmlformats.org/officeDocument/2006/relationships/slide" Target="slide25.xml"/><Relationship Id="rId13" Type="http://schemas.openxmlformats.org/officeDocument/2006/relationships/slide" Target="slide35.xml"/><Relationship Id="rId14" Type="http://schemas.openxmlformats.org/officeDocument/2006/relationships/slide" Target="slide17.xml"/><Relationship Id="rId15" Type="http://schemas.openxmlformats.org/officeDocument/2006/relationships/slide" Target="slide27.xml"/><Relationship Id="rId16" Type="http://schemas.openxmlformats.org/officeDocument/2006/relationships/slide" Target="slide37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21.xml"/><Relationship Id="rId21" Type="http://schemas.openxmlformats.org/officeDocument/2006/relationships/slide" Target="slide31.xml"/><Relationship Id="rId22" Type="http://schemas.openxmlformats.org/officeDocument/2006/relationships/slide" Target="slide41.xml"/><Relationship Id="rId23" Type="http://schemas.openxmlformats.org/officeDocument/2006/relationships/slide" Target="slide43.xml"/><Relationship Id="rId24" Type="http://schemas.openxmlformats.org/officeDocument/2006/relationships/slide" Target="slide2.xml"/><Relationship Id="rId25" Type="http://schemas.openxmlformats.org/officeDocument/2006/relationships/image" Target="../media/image2.jpeg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 Black"/>
              </a:rPr>
              <a:t>Jeopardy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219320" y="1143000"/>
          <a:ext cx="7238880" cy="53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2388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4"/>
          <p:cNvSpPr/>
          <p:nvPr/>
        </p:nvSpPr>
        <p:spPr>
          <a:xfrm>
            <a:off x="1508760" y="122220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276720" y="144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83280" y="114300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705720" y="144792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730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54640" y="3048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5464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5464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75464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40740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9364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5159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343116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15988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691272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34311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4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518364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69364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4311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7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5183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91272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4311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0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5183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1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69364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2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7067880" y="6391440"/>
            <a:ext cx="1986840" cy="4597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29" descr="m_button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52280" y="601992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6" name="jeo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9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11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0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9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 Black"/>
              </a:rPr>
              <a:t>Jeopardy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1219320" y="1143000"/>
          <a:ext cx="7238880" cy="53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2388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1508760" y="122220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144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183280" y="114300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705720" y="144792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730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54640" y="3048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75464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75464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75464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340740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69364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159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43116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15988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691272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34311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4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518364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69364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34311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7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5183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691272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34311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0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5183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1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69364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2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7067880" y="6391440"/>
            <a:ext cx="1986840" cy="4597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9" descr="m_button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52280" y="601992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16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133800" y="14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12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10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12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06668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3962520" y="5791320"/>
            <a:ext cx="2590560" cy="1066680"/>
          </a:xfrm>
          <a:prstGeom prst="rightArrow">
            <a:avLst>
              <a:gd name="adj1" fmla="val 50000"/>
              <a:gd name="adj2" fmla="val 607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06668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1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$500 Question from Social Stud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AutoShape 5">
            <a:hlinkClick r:id="" action="ppaction://hlinkshowjump?jump=nextslide"/>
          </p:cNvPr>
          <p:cNvSpPr/>
          <p:nvPr/>
        </p:nvSpPr>
        <p:spPr>
          <a:xfrm>
            <a:off x="4038480" y="579132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$500 Answer from Social Stud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06668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14400" y="2057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9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10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6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inal Jeopard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AutoShape 6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inal Jeopardy Answer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Picture 6" descr="thumbup"/>
          <p:cNvPicPr/>
          <p:nvPr/>
        </p:nvPicPr>
        <p:blipFill>
          <a:blip r:embed="rId1"/>
          <a:stretch/>
        </p:blipFill>
        <p:spPr>
          <a:xfrm>
            <a:off x="3809880" y="4800600"/>
            <a:ext cx="1578240" cy="1679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8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skidd</cp:lastModifiedBy>
  <dcterms:modified xsi:type="dcterms:W3CDTF">2009-11-13T20:15:29Z</dcterms:modified>
  <cp:revision>40</cp:revision>
  <dc:subject/>
  <dc:title>Jeopardy</dc:title>
</cp:coreProperties>
</file>